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C8C-9E1A-45C1-A5D1-8F8EDAB47A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6886-A0D4-43C0-9795-2ED19A88FD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7F5-5818-4A1C-B547-8F8F025FD0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A9A-73B1-4826-9B96-7B51B6C485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7E3-7B36-4303-9DDF-044C0022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450-D9F4-4D12-AE4A-FFAF93B1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2F8-C0CC-402C-B994-1FC11F0D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012-7322-4C2B-8E74-83FCDC8E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AEA-545A-4EBA-A1B2-C656C1E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484-AAA3-47A4-944C-5D0395C9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081-E433-4540-B6F3-C7E8622F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DA9-4628-4D5D-A59C-20FACC2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654-5D1C-42D5-9C5E-34CDC353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E09-4EFC-487F-B012-A62A549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80B-930A-4B83-93BD-E20AD7C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432-DD21-409F-9AB0-B400A25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FBA-3E33-4491-B484-8E5D1F626B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2079720" y="338040"/>
            <a:ext cx="27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연수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6320" y="776160"/>
            <a:ext cx="258300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86"/>
          <p:cNvSpPr/>
          <p:nvPr/>
        </p:nvSpPr>
        <p:spPr>
          <a:xfrm>
            <a:off x="1138320" y="9472680"/>
            <a:ext cx="368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의 경우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 신청서에 기재한 금액 이상은 지원이 불가하므로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점 유의하셔서 정확히 기재해 주시기 바랍니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87"/>
          <p:cNvSpPr/>
          <p:nvPr/>
        </p:nvSpPr>
        <p:spPr>
          <a:xfrm>
            <a:off x="1244880" y="61070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2880" y="1092240"/>
          <a:ext cx="6310440" cy="8397720"/>
        </p:xfrm>
        <a:graphic>
          <a:graphicData uri="http://schemas.openxmlformats.org/drawingml/2006/table">
            <a:tbl>
              <a:tblPr/>
              <a:tblGrid>
                <a:gridCol w="835200"/>
                <a:gridCol w="714240"/>
                <a:gridCol w="382680"/>
                <a:gridCol w="828720"/>
                <a:gridCol w="243000"/>
                <a:gridCol w="833400"/>
                <a:gridCol w="666720"/>
                <a:gridCol w="379440"/>
                <a:gridCol w="1427040"/>
              </a:tblGrid>
              <a:tr h="107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상 표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·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락 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국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주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  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언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고등학교 졸업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  대학 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대학원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타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동반 ○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사항에 표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항공료 지원여부 확인을 위해 표시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5280">
                <a:tc grid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해외연수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19"/>
          <p:cNvSpPr/>
          <p:nvPr/>
        </p:nvSpPr>
        <p:spPr>
          <a:xfrm>
            <a:off x="681840" y="789120"/>
            <a:ext cx="12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69720" y="1260360"/>
            <a:ext cx="6135840" cy="76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해외 연수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 기관이나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재단에 중복 지원한 사실이 없음을 확인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일정 종료시까지 특별한 사유 없이 중도 귀국하지 않고 연수에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해외 연수를 수행하기 어려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유는 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연수를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연수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기간 중 신분의 변화나 연수기관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내용 등의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유하고 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는 연수보고서 혹은 논문으로 제출하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재를 연계한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우에는 소속회사 매체를 통해서 기획 보도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물이 해외 연수 활성화를 통한 지속적인 언론인 양성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하여 재단 홈페이지에 게시되고 이용되는 것에 동의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종료 이후 최소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언론계에 근무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1400" y="388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0600" y="9201240"/>
            <a:ext cx="60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Line 72"/>
          <p:cNvSpPr/>
          <p:nvPr/>
        </p:nvSpPr>
        <p:spPr>
          <a:xfrm>
            <a:off x="2421000" y="849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685800" y="395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93600" y="1353960"/>
            <a:ext cx="6670800" cy="74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해외연수 프로그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신청서 및 연수계획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국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주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계획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학 허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추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우자 동반 여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주제 관련 결과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연수 관련 보고서 또는 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있을 수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 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기간 경과 후에는 연수 결과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보고서 또는 연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재단 홈페이지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이 프로그램을 운영하는 기간 동안 게시하는 경우를 제외하고는 법령상 절차에 따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전하게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3600" y="186480"/>
            <a:ext cx="6670800" cy="46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18-12-13T08:29:22Z</cp:lastPrinted>
  <dcterms:modified xsi:type="dcterms:W3CDTF">2024-12-13T05:55:41Z</dcterms:modified>
  <cp:revision>299</cp:revision>
  <dc:subject/>
  <dc:title>PowerPoint 프레젠테이션</dc:title>
</cp:coreProperties>
</file>