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5B44-AA50-443F-9B33-A5D17F29A0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29CB-0388-4FFE-9980-CDCF593546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1EA8-D122-4861-9271-8D079AA85C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465-F0D0-489A-901C-F7EFF737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CC1-C75B-4060-A6D1-F400417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F42-F096-4FAB-82BE-0ADDFA60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CF1-8B93-4228-B5C1-2D8BEE79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258-5FD7-4E51-A789-3D805E59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335-B15A-4CD7-BE65-F2E4C9A7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732-23D0-4B30-80B5-FB6B9157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918-04BA-4637-ABC4-22B83A59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C9E-18B4-418D-B5A1-1CB44F37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4BF-E611-4ED4-A00D-ADA8ED9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D8F-4F17-41F7-9100-B303DBC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9F7-6756-4209-9946-D026F39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CE5-0321-4FC5-8D5F-83A7C815137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0" y="63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3080" y="1066680"/>
            <a:ext cx="257184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680" y="1309680"/>
          <a:ext cx="5679720" cy="4148280"/>
        </p:xfrm>
        <a:graphic>
          <a:graphicData uri="http://schemas.openxmlformats.org/drawingml/2006/table">
            <a:tbl>
              <a:tblPr/>
              <a:tblGrid>
                <a:gridCol w="842760"/>
                <a:gridCol w="722160"/>
                <a:gridCol w="984600"/>
                <a:gridCol w="753840"/>
                <a:gridCol w="957240"/>
                <a:gridCol w="1419120"/>
              </a:tblGrid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회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           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71680" y="5456160"/>
          <a:ext cx="5679720" cy="3384720"/>
        </p:xfrm>
        <a:graphic>
          <a:graphicData uri="http://schemas.openxmlformats.org/drawingml/2006/table">
            <a:tbl>
              <a:tblPr/>
              <a:tblGrid>
                <a:gridCol w="842760"/>
                <a:gridCol w="744480"/>
                <a:gridCol w="966960"/>
                <a:gridCol w="1406520"/>
                <a:gridCol w="647640"/>
                <a:gridCol w="1071360"/>
              </a:tblGrid>
              <a:tr h="40032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야 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재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가과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고등학교   졸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 대학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대학원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3280"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어학교육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19"/>
          <p:cNvSpPr/>
          <p:nvPr/>
        </p:nvSpPr>
        <p:spPr>
          <a:xfrm>
            <a:off x="668880" y="820800"/>
            <a:ext cx="12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85800" y="747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 및 지원동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72"/>
          <p:cNvSpPr/>
          <p:nvPr/>
        </p:nvSpPr>
        <p:spPr>
          <a:xfrm>
            <a:off x="2060640" y="1208160"/>
            <a:ext cx="271296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5"/>
          <p:cNvSpPr/>
          <p:nvPr/>
        </p:nvSpPr>
        <p:spPr>
          <a:xfrm>
            <a:off x="476280" y="1639800"/>
            <a:ext cx="5905440" cy="7705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446120" y="1652760"/>
            <a:ext cx="37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경력을 중심으로 한 자기소개와 어학교육 지원동기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등을 기술하십시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0600" y="963720"/>
            <a:ext cx="6126120" cy="85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어학 교육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일정 종료시까지 특별한 사유 없이 지각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중단하지 않고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국내외 연수기관에서 교육생으로서 지켜야 할 제반 규정을 준수하여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에 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어학교육을 수행하기 어려운 사유는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교육을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교육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소속 변경 등 지원신청서 제출 당시 대비하여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공유하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 월        일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0600" y="9416880"/>
            <a:ext cx="604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920" y="2001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Line 72"/>
          <p:cNvSpPr/>
          <p:nvPr/>
        </p:nvSpPr>
        <p:spPr>
          <a:xfrm>
            <a:off x="2459160" y="660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85800" y="766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1600" y="1709280"/>
            <a:ext cx="6453360" cy="67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어학교육 프로그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프로그램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가 과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동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 추천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01600" y="378720"/>
            <a:ext cx="6453360" cy="50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발에 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 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24-12-10T00:30:58Z</cp:lastPrinted>
  <dcterms:modified xsi:type="dcterms:W3CDTF">2024-12-13T05:56:18Z</dcterms:modified>
  <cp:revision>265</cp:revision>
  <dc:subject/>
  <dc:title>PowerPoint 프레젠테이션</dc:title>
</cp:coreProperties>
</file>