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4280" y="745920"/>
            <a:ext cx="25779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944-0163-493C-8481-B76BF932CB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67F-E0AF-449A-9B34-E7E34B6BC3E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DF0F-2984-4EF0-AB36-6CAB5432E63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CCCD-3605-4BD0-BFD3-08FF860B53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58D-A75E-4DE5-9F02-281D68E9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78A-0593-4ACD-8B02-B8DBC8F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A2A-E668-41C3-86D5-05EA6766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A2F-DA89-4BC2-8A49-4F9F2F2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C08-1067-46D5-A441-FFB82B29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24A-79C6-489D-8438-4AEC9944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0DA-E8AC-4A37-927D-77347C9E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FE6-8820-41D6-9B0B-8B565D2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827-06C8-456B-9008-24EF63CC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F5D-2825-499A-8E78-EB3F054B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D53-10B0-47F7-A3D7-6AA603D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5AF-68E5-4D3A-BA98-3F774EC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0D3-9093-4728-9E42-D1A86E0B4F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1"/>
          <p:cNvSpPr/>
          <p:nvPr/>
        </p:nvSpPr>
        <p:spPr>
          <a:xfrm>
            <a:off x="2079720" y="338040"/>
            <a:ext cx="27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연수 지원신청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72"/>
          <p:cNvSpPr/>
          <p:nvPr/>
        </p:nvSpPr>
        <p:spPr>
          <a:xfrm>
            <a:off x="2146320" y="776160"/>
            <a:ext cx="258300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86"/>
          <p:cNvSpPr/>
          <p:nvPr/>
        </p:nvSpPr>
        <p:spPr>
          <a:xfrm>
            <a:off x="1138320" y="9472680"/>
            <a:ext cx="368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비의 경우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 신청서에 기재한 금액 이상은 지원이 불가하므로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점 유의하셔서 정확히 기재해 주시기 바랍니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87"/>
          <p:cNvSpPr/>
          <p:nvPr/>
        </p:nvSpPr>
        <p:spPr>
          <a:xfrm>
            <a:off x="1244880" y="6107040"/>
            <a:ext cx="26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2880" y="1092240"/>
          <a:ext cx="6310440" cy="8397720"/>
        </p:xfrm>
        <a:graphic>
          <a:graphicData uri="http://schemas.openxmlformats.org/drawingml/2006/table">
            <a:tbl>
              <a:tblPr/>
              <a:tblGrid>
                <a:gridCol w="835200"/>
                <a:gridCol w="714240"/>
                <a:gridCol w="382680"/>
                <a:gridCol w="828720"/>
                <a:gridCol w="243000"/>
                <a:gridCol w="833400"/>
                <a:gridCol w="666720"/>
                <a:gridCol w="379440"/>
                <a:gridCol w="1427040"/>
              </a:tblGrid>
              <a:tr h="107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권상 표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  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    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·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언론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개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락 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택주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편번호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국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기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기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수주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  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언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종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점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정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고등학교 졸업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대학교              대학  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      대학교            대학원 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타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8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우자 동반 ○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사항에 표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배우자 항공료 지원여부 확인을 위해 표시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5280">
                <a:tc grid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은 상기와 같이 언론인 해외연수 지원을 신청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19"/>
          <p:cNvSpPr/>
          <p:nvPr/>
        </p:nvSpPr>
        <p:spPr>
          <a:xfrm>
            <a:off x="681840" y="789120"/>
            <a:ext cx="12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근 경력부터 기재해 주십시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76280" y="1065240"/>
          <a:ext cx="5904000" cy="8023320"/>
        </p:xfrm>
        <a:graphic>
          <a:graphicData uri="http://schemas.openxmlformats.org/drawingml/2006/table">
            <a:tbl>
              <a:tblPr/>
              <a:tblGrid>
                <a:gridCol w="555480"/>
                <a:gridCol w="1675080"/>
                <a:gridCol w="1458720"/>
                <a:gridCol w="719280"/>
                <a:gridCol w="1495440"/>
              </a:tblGrid>
              <a:tr h="303120">
                <a:tc rowSpan="1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 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0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 상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내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69720" y="1260360"/>
            <a:ext cx="6135840" cy="76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귀 재단에서 실시하는 </a:t>
            </a:r>
            <a:r>
              <a:rPr b="1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해외연수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“해외 연수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관련하여 아래 사항을 확약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참여에 대하여 소속 회사의 사전 동의를 받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 기관이나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재단에 중복 지원한 사실이 없음을 확인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일정 종료시까지 특별한 사유 없이 중도 귀국하지 않고 연수에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실히 임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신청서에 허위사항을 기재하거나 중요사항을 누락하지 않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징계처분 등 재단의 운영 취지에 비추어 해외 연수를 수행하기 어려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유는 없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기간 중 비위 행위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행위 등 연수를 수행하기 어렵다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단되는 사유가 발생한 경우 재단은 연수 기간 중이라도 언제든지 선발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할 수 있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등에 대해서도 전적으로 본인이 책임을 부담하도록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기간 중 신분의 변화나 연수기관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내용 등의 변경 사항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였거나 발생할 것이 예상되는 경우 즉시 재단에 관련 내용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유하고 협의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결과는 연수보고서 혹은 논문으로 제출하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재를 연계한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우에는 소속회사 매체를 통해서 기획 보도 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결과물이 해외 연수 활성화를 통한 지속적인 언론인 양성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하여 재단 홈페이지에 게시되고 이용되는 것에 동의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외 연수 기간 종료 이후 최소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언론계에 근무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위 사항을 위반하거나 협의되지 않은 변경 사항이 확인된 경우 소속 회사에 통보 및 지원금 전체를 반환하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에 대해 어떠한 이의도 제기하지 않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        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월  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인  소속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명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71400" y="388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     약      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0600" y="9201240"/>
            <a:ext cx="604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귀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Line 72"/>
          <p:cNvSpPr/>
          <p:nvPr/>
        </p:nvSpPr>
        <p:spPr>
          <a:xfrm>
            <a:off x="2421000" y="849240"/>
            <a:ext cx="201132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685800" y="3952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공 및 활용 동의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93600" y="1353960"/>
            <a:ext cx="6670800" cy="749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재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제출하는 언론인 해외연수 프로그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프로그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 지원신청서 및 연수계획서에 대한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자 선발 및 결과 관리 등에 있어 재단이 본인의 개인정보를 활용할 필요가 있다는 것을 이해하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를 위해 「개인정보 보호법」등에 의해 보호되고 있는 본인에 관한 각종 자료를 관련 법령에 따라 재단에 제공하는데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의 수집 및 이용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해외연수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등 대상자 선발 관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관련 각종 안내 및 정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운영 및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집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성과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항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성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년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언론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정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사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입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대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택 주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교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졸업 여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당업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내용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국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기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주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종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정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증명서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계획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학 허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 대표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추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우자 동반 여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 주제 관련 결과물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연수 관련 보고서 또는 수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제한이 있을 수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보유 및 이용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프로그램 운영을 위하여 지원서 접수일부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개인정보를 보유하고 이용할 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당 기간 경과 후에는 연수 결과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수보고서 또는 연수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재단 홈페이지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이 프로그램을 운영하는 기간 동안 게시하는 경우를 제외하고는 법령상 절차에 따라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전하게 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지원자 본인의 삭제요청이 있을 경우 지체 없이 해당 개인정보를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3600" y="186480"/>
            <a:ext cx="6670800" cy="46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수집한 지원자의 개인정보를 원칙적으로 외부에 공개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가 사전에 동의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령의 규정에 의거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운영과 관련해 필요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에 대한 프로그램 중단 사실 통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에 제공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한이 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인한 동의서의 복사본은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에 필요한 다양한 자료 수집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의를 위해서 원본과 동일하게 유효하다는 것을 인정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월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              직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 귀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10:38Z</dcterms:created>
  <dc:creator>(주)LG</dc:creator>
  <dc:description/>
  <dc:language>en-US</dc:language>
  <cp:lastModifiedBy>김민정</cp:lastModifiedBy>
  <cp:lastPrinted>2018-12-13T08:29:22Z</cp:lastPrinted>
  <dcterms:modified xsi:type="dcterms:W3CDTF">2024-12-13T05:55:41Z</dcterms:modified>
  <cp:revision>299</cp:revision>
  <dc:subject/>
  <dc:title>PowerPoint 프레젠테이션</dc:title>
</cp:coreProperties>
</file>